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AE2B5-19F7-489A-B75D-043CE8F19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19586-A81D-461C-A4DC-F3087E190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F09DF-9E8C-4112-99E7-0D31744EA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176BB-42B4-4862-9707-76C43FFFF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3A8FB-0304-4BB6-8875-9F3BB36C9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00A4B-A571-4245-990C-4EC0CDA33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29DB1-43D2-4497-B414-84EB09F1A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EE9D0-6682-4B70-98B3-745E44D11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3CBD8-2EBE-452B-A33A-F77D05758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2D347-A6F7-4127-84B7-A8E78C9B1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D208F-9640-44F3-AA82-605F97A2E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02071-A2F9-412E-A360-C5F8703BC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0C006-8876-42CA-98CD-BE58FE4543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– Lewis and Clark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an annotated map of the Lewis and Clark expedi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lude at least 5 animals or plants that they discover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lustrate their route and discover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 a key and color code where necessa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5T14:00:19Z</dcterms:created>
  <dc:creator>NNPS</dc:creator>
  <dc:description/>
  <dc:language>en-US</dc:language>
  <cp:lastModifiedBy>NNPS</cp:lastModifiedBy>
  <dcterms:modified xsi:type="dcterms:W3CDTF">2008-05-05T14:00:58Z</dcterms:modified>
  <cp:revision>1</cp:revision>
  <dc:subject/>
  <dc:title>Project – Lewis and Clark </dc:title>
</cp:coreProperties>
</file>